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10.png" ContentType="image/pn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089-5501-452E-8E8C-7CFE6316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37D-4382-4BEA-BAA6-2F39942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C30-5535-4379-A797-1635FD49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17B-8D34-4668-BC6D-35699876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CD1-A8A1-4CE5-949C-70629B9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547-82C9-4B79-862B-7220895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A36-D3ED-4314-ABC6-C8C668F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F32-DE68-4FA1-AFDB-B5DD433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E18-08FB-4008-B4C7-672FB698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16C-403F-4E74-A5DE-E119AAB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C04-2EA8-4994-9175-45F1A51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8B8-D84B-414B-AC24-D300A82C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255E-252A-44F0-A29A-408E38D0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ixed and Adaptive Cache Aware Algorithms for Multigrid Methods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aig C. Douglas and Jonathan Hu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University of Kentu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lrich Ruede and Markus Kowarsch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University of Erl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lfgang Karl and Christian W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Technical University of Mu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4864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* Supported in part by the DFG, NSF, NATO, and Delta Air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83D-20D5-4D2B-AC89-C776A0CF9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Quasi- and unstructured grids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 the smoother and residual computation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hould really integrate the projection and interpolation, but that is too complicated (so far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ersus adaptive cache methods:  Each uses a fixed block of data consisting of a submatrix and subvectors of the approximate solution and right hand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ixed meth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 set of statically chosen blocks, computing on one at a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daptive meth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 sliding window of a fixed size, always computing within the window.  This is also referred to as computing with an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ctive set of no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CC9-6C42-47CA-94AF-6AD508589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xed block strategies: pre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hree basic 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rid decom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o cach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hoose a cache block or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order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given grid, these operations occur only once.  If a grid is reused, the cost of preprocessing is irrelevant.  Only when the grid is used exactly once is the preprocessing step consequ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grid will be used many times, it pays to do some extra preprocessing that is normally unacceptable for the single u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495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Fixed block strategies: cache aware Gauss-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105520"/>
            <a:ext cx="7772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s much as possible within a cac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residual during the last iteration as much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track to finish updating nodes along the cache bounda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D7A-E066-4105-ABD1-0EA3CC2719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: updates in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, assuming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hat we want three updates on all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36N0updates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75" name="36N1updates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76" name="36N2updates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77" name="36N3updates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78" name="36N2ndD1updates" descr=""/>
          <p:cNvPicPr/>
          <p:nvPr/>
        </p:nvPicPr>
        <p:blipFill>
          <a:blip r:embed="rId5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79" name="36N2ndD2updates" descr=""/>
          <p:cNvPicPr/>
          <p:nvPr/>
        </p:nvPicPr>
        <p:blipFill>
          <a:blip r:embed="rId6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pic>
        <p:nvPicPr>
          <p:cNvPr id="80" name="36N2ndD3updates" descr=""/>
          <p:cNvPicPr/>
          <p:nvPr/>
        </p:nvPicPr>
        <p:blipFill>
          <a:blip r:embed="rId7"/>
          <a:stretch/>
        </p:blipFill>
        <p:spPr>
          <a:xfrm>
            <a:off x="2743200" y="1523880"/>
            <a:ext cx="3876840" cy="387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38560" y="5486400"/>
            <a:ext cx="65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s 1 and 19 are now fully updated with only one pas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che.  A non-cache implementation would require all of the nod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rough cache 3 ti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523-B04F-4B7D-87FA-3FEA08E893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Physical grid decomposition into cache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che 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of grid points where the submatrix, unknowns, and right hand side associated with the nodes fit entirely into the cac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at least, in theor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composition sh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nimize 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cache blocks whil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ximizing interior n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ad balancing c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 the distributed memory size set to the cache size) meet these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loo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acceptable for grids that will be used repeatedly.  We assume nothing about the grid numbering that comes from MET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generators with the right node numbering properties (i.e., block or fan-out oriented) lead to very fast grid decomposition sche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CA6-D91A-4B4C-86BB-F87526A71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4.adj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t4.adj1" descr=""/>
          <p:cNvPicPr/>
          <p:nvPr/>
        </p:nvPicPr>
        <p:blipFill>
          <a:blip r:embed="rId2"/>
          <a:stretch/>
        </p:blipFill>
        <p:spPr>
          <a:xfrm>
            <a:off x="0" y="3252960"/>
            <a:ext cx="4805280" cy="3605040"/>
          </a:xfrm>
          <a:prstGeom prst="rect">
            <a:avLst/>
          </a:prstGeom>
          <a:ln w="0">
            <a:noFill/>
          </a:ln>
        </p:spPr>
      </p:pic>
      <p:pic>
        <p:nvPicPr>
          <p:cNvPr id="86" name="texas4.12cb" descr=""/>
          <p:cNvPicPr/>
          <p:nvPr/>
        </p:nvPicPr>
        <p:blipFill>
          <a:blip r:embed="rId3"/>
          <a:stretch/>
        </p:blipFill>
        <p:spPr>
          <a:xfrm>
            <a:off x="-457200" y="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0800000">
            <a:off x="6019920" y="5028840"/>
            <a:ext cx="814320" cy="955800"/>
          </a:xfrm>
          <a:custGeom>
            <a:avLst/>
            <a:gdLst>
              <a:gd name="textAreaLeft" fmla="*/ 0 w 814320"/>
              <a:gd name="textAreaRight" fmla="*/ 814680 w 8143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1600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80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hoosing a block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6095880"/>
            <a:ext cx="35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Cuthill Mckee, et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998-EF9E-4F44-9CF7-4ECB9D55BC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Ordering within a cache block </a:t>
            </a:r>
            <a:r>
              <a:rPr b="0" lang="en-US" sz="2400" spc="-1" strike="noStrike">
                <a:solidFill>
                  <a:srgbClr val="993366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993366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relaxations possible at a node is the length of the shortest path to the cache block bounda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nodes of length i fr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 practice, for m smoothing steps, we combine all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&gt;m, into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+1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rder with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+1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oothing step, nodes i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+1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moothed.  For the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oothing step, we calculate the (partial) residuals, too.  For nodes i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+1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complete residuals are calculated.  Otherwise, a backtracking algorithm must be used that is inexpensive and does not revisit too many cache blocks too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14B-34E1-4008-BB5B-9FD9C8A62D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daptive Caching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order matrix using only bandwidth reduction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-Seidel only on the active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de leaves the active set only when it is fully upd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cache size C, we n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+1)B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B is the bandwidth,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memory required for B(m+2) unknowns, and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memory required for one row of the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ache is too small, then much trickier algorithms have to be developed and used (or a fixed algorith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911-A67D-4CDB-A45F-526BE9FFC5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xed block preprocessing costs: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1523880"/>
          <a:ext cx="6006960" cy="45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60069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332-74CB-4BD9-8059-03E6B0D30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Fixed block preprocessing costs: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current algorithms assume that the node numbering from the cache block generator is a random mess, has arbitrary cache block boundaries, and provides no hint where the cache block boundaries are.  The cost can be bounded by the con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cg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8NK + QM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+ 5QM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, for standard Gauss-Seidel the cost is bounded by the con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g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2d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these two constants compare?  Under realistic assumptions for the costs of floating point and integer operations on RISC based processors with caches, we 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 dof/n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cost is roughly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auss-Seidel smoothing ste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 dof/n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cost is roughly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auss-Seidel smoothing step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dramatically reduced by using a grid generator that numbers the nodes in cache friendly manner (i.e., in blocks, a fan-out style from a starting point on the boundary, or strips across the doma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4BD-8F6F-421B-B06B-904EAFD4E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Numerical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ed experiments are on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GI O2 works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Mhz MIPS r10000 CPU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Kb unified L0 cache,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Kb L1 cache, and 1024 Kb L2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 Mb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on a node of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P Exemplar SPP-8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 grids are treated as unstructured 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 problems are treated as variable coefficient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elasticity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tructured grid on Texas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de is portable. 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code is not strictly tuned to any singl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A00-3E64-4F60-9DC4-F70B53BC9D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Outline of the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ructured grids in two and three dimen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structured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rocessing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989-FB45-40A4-BB91-06045A8B2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Test Problem P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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+ 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Cauchy stress t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C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 = 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is the infinitesimal strain t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 = .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is the elastic t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displacement vector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the Lamé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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 no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surface vecto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exas4.12cb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62940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omain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50B-E501-44BF-AEC1-C0BC9EAF2D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as4.12cb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07" name="texas3.cb" descr=""/>
          <p:cNvPicPr/>
          <p:nvPr/>
        </p:nvPicPr>
        <p:blipFill>
          <a:blip r:embed="rId2"/>
          <a:stretch/>
        </p:blipFill>
        <p:spPr>
          <a:xfrm>
            <a:off x="0" y="31464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Examples of Cache Block Decomposition from ME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080" y="218268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cache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6520" y="21826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cache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6A6-0C41-4869-8B8E-ED52231E4C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Speedups: Three Level V Cycle (circa 9/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905120"/>
          <a:ext cx="6083280" cy="38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0832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BC8-3239-45E6-8408-5C1F559B7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2 cache hit Rate for three level V cycle: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ache block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BCH.072299.3l" descr=""/>
          <p:cNvPicPr/>
          <p:nvPr/>
        </p:nvPicPr>
        <p:blipFill>
          <a:blip r:embed="rId1"/>
          <a:stretch/>
        </p:blipFill>
        <p:spPr>
          <a:xfrm>
            <a:off x="1066680" y="16556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341-6989-4FF8-B2D2-7B2DB3D000C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2 cache line Reuse in three level V cycle: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ache block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BLR.072299.3l" descr=""/>
          <p:cNvPicPr/>
          <p:nvPr/>
        </p:nvPicPr>
        <p:blipFill>
          <a:blip r:embed="rId1"/>
          <a:stretch/>
        </p:blipFill>
        <p:spPr>
          <a:xfrm>
            <a:off x="1143000" y="1538280"/>
            <a:ext cx="7091280" cy="53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B5A-AB33-484A-9323-0870CF6B73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2 cache hit rate for three level V cycle: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ctive set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SCH.072399.3l" descr=""/>
          <p:cNvPicPr/>
          <p:nvPr/>
        </p:nvPicPr>
        <p:blipFill>
          <a:blip r:embed="rId1"/>
          <a:stretch/>
        </p:blipFill>
        <p:spPr>
          <a:xfrm>
            <a:off x="762120" y="1312920"/>
            <a:ext cx="739116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06E-ABBD-42DB-B5DB-FA97BC9715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L2 cache line reuse in three level V cycle: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ctive set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ASLR.072399.3l" descr=""/>
          <p:cNvPicPr/>
          <p:nvPr/>
        </p:nvPicPr>
        <p:blipFill>
          <a:blip r:embed="rId1"/>
          <a:stretch/>
        </p:blipFill>
        <p:spPr>
          <a:xfrm>
            <a:off x="1219320" y="1709640"/>
            <a:ext cx="686268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117-FF70-49EF-940C-CB2B5171C7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ïve use of caches really hurts the performance of PDE solvers.  The problem will not go away anytime soon due to a technology barr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ional compilers do not provide adequate automatic optimizations suitable even for simple PDE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gains make the changes worthwhil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s long as you are not a fanati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letely automatic code generator for caches (similar to the BLAS generator) that can handle PDE’s (even simple ones) would be quite use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ing the speedup for the smoother+residual calculation almost provides the speedup for the entire V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021-51FD-4D64-819A-75E90FE597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C. Douglas,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aching in with multigrid algorithms:  problems in two dimens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rallel Algorithms and Appl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9 (1996), pp. 195-2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C. Douglas, J. Hu, M. Kowarschik, U. Ruede, and C. Weiss,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Cache Optimization for Structured and Unstructured Grid Multigr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 appear in ET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9 (2000).  (See MGNet’s preprint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C. Douglas, U. Ruede, J. Hu, and M. L. Bittencourt,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A guide to designing cache aware multigrid algorith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 appear in a proceedings edited by W. Hackbusch and G. Witt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999/2000. (See MGNet’s preprint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Weiss, W. Karl, M. Kowarschik, and U. Ruede,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Memory characteristics of iterative metho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 Proceedings of Supercomputing’9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 URL’s (besides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http://www.mgnet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http://www10.informatik.tu-muenchen.de/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99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http://www.ccs.uky.edu/~douglas/ccd-prepri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80-7A50-4FCA-8A05-8B4E432865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Structured grids: code profiling – processor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8380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of the cache aware Gauss-Seidel code using 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igital Continuous Profiling Infrastructure (D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DEC PWS 500au.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Maximum Mflops = 1,000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057400"/>
          <a:ext cx="7924680" cy="40384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i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Fl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% of cycles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ra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p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6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5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4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3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6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1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8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8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8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37D-1213-4DCE-AE0A-1C6EB2B05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Code profiling – memory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1371600"/>
          <a:ext cx="7238880" cy="4074840"/>
        </p:xfrm>
        <a:graphic>
          <a:graphicData uri="http://schemas.openxmlformats.org/drawingml/2006/table">
            <a:tbl>
              <a:tblPr/>
              <a:tblGrid>
                <a:gridCol w="1035360"/>
                <a:gridCol w="1032480"/>
                <a:gridCol w="1035000"/>
                <a:gridCol w="1032840"/>
                <a:gridCol w="1035000"/>
                <a:gridCol w="1032480"/>
                <a:gridCol w="1035720"/>
              </a:tblGrid>
              <a:tr h="39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i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ta set size (M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% of all accesses satisfied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1 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2 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3 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6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7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7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5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2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3366"/>
                          </a:solidFill>
                          <a:latin typeface="Times New Roman"/>
                        </a:rPr>
                        <a:t>3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516-2410-4786-88A8-747187B37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 fixed cache block method 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several Gauss-Seidel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one pass through the grid, but completely update solution at all of the nodes.  2m+2 rows must fit into ca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13 Mflop/s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es to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150 Mflop/se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320040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F02-4F84-45F6-A898-733FB43FA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n adaptive cache block method 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ophisticated data access 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rray padd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double precision u(0:N+pad1, 0:N), f(0:N+pad2, 0: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50 Mflops/s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70 Mflops/s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LIDE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276720" cy="32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BCE-7137-42E3-A5C5-5761A7FF7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An adaptive cache block method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dimensional array padding is complicated, but helps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ly blocking several red/black Gauss-Seidel steps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 on the larger me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xation on the larger meshes consumes most of the V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D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4360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FF4-212E-47A0-BC76-5A5072976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Numerical results in 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b_21164_2d" descr=""/>
          <p:cNvPicPr/>
          <p:nvPr/>
        </p:nvPicPr>
        <p:blipFill>
          <a:blip r:embed="rId1"/>
          <a:stretch/>
        </p:blipFill>
        <p:spPr>
          <a:xfrm>
            <a:off x="0" y="1447920"/>
            <a:ext cx="4673520" cy="3022560"/>
          </a:xfrm>
          <a:prstGeom prst="rect">
            <a:avLst/>
          </a:prstGeom>
          <a:ln w="0">
            <a:noFill/>
          </a:ln>
        </p:spPr>
      </p:pic>
      <p:pic>
        <p:nvPicPr>
          <p:cNvPr id="62" name="mg_4_0_21164_2d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329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54100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lops/sec for the 2D red-black Gauss-Seidel method (left) and for 2D V(4,0) multigrid cycles (righ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0B8-2F16-4544-A5A7-F29C3CBB7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Numerical results in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elax3dperf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394160" cy="312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5029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lops/sec for the 3D red-black Gauss-Seidel method with 2 and 4 blo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F37-211A-4DED-8816-4976F84E35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52:35Z</dcterms:created>
  <dc:creator>Craig C. Douglas</dc:creator>
  <dc:description/>
  <dc:language>en-US</dc:language>
  <cp:lastModifiedBy>Craig C. Douglas</cp:lastModifiedBy>
  <dcterms:modified xsi:type="dcterms:W3CDTF">1999-09-29T00:11:05Z</dcterms:modified>
  <cp:revision>13</cp:revision>
  <dc:subject/>
  <dc:title>Fixed and Adaptive Cache Aware Algorithms for Multigrid Methods*</dc:title>
</cp:coreProperties>
</file>