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9.pct" ContentType="image/x-pict"/>
  <Override PartName="/ppt/media/image28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31.png" ContentType="image/png"/>
  <Override PartName="/ppt/media/image1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1.pct" ContentType="image/x-pict"/>
  <Override PartName="/ppt/media/image14.png" ContentType="image/png"/>
  <Override PartName="/ppt/media/image12.pct" ContentType="image/x-pict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3B84-13E5-4665-9906-E0F308574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7022-1152-4ACD-997A-316A3FC4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8D2E-180F-4DA3-B826-717ACAA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0B21-BFD2-49F4-9068-50BE7D8EB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8B85-DA66-4498-8DB4-46227D0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012F-0E5E-4092-99D9-1CA23AE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93A6-77EF-4B27-863F-85E9B36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CA0E-F73B-4494-BAF9-4FAE366A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8813-B3CE-41A1-A169-00001D43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B534-B9B4-44B9-8EE4-BB7E7EE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CEB7-D73C-4D09-B6FF-8BE8DD09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785A-EC67-44E3-875C-3A0274DD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ie: </a:t>
            </a:r>
            <a:fld id="{7E8A4481-C49F-4600-8362-83C0D082FA0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6320" y="594360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162920" y="619128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2209680" y="6070680"/>
            <a:ext cx="4724640" cy="7873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6320" y="594360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7162920" y="619128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2209680" y="6070680"/>
            <a:ext cx="4724640" cy="7873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296400" y="64450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C00-CD47-4B79-85F6-11A4D1B2362C}" type="slidenum">
              <a:rPr b="0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hyperlink" Target="http://www10.informatik.uni-erlangen.de/en/Research/Projects/DiME/" TargetMode="Externa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Experiences with the design of</a:t>
            </a:r>
            <a:br>
              <a:rPr sz="3600"/>
            </a:b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 cache-aware numerical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2666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Arial"/>
              </a:rPr>
              <a:t>ScalPerf 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lrich Ruede, Jan Treibi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kus Kowarsch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ww10.informatik.uni-erlangen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rman National Supercomputer</a:t>
            </a:r>
            <a:br>
              <a:rPr sz="28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NWIHR: Bavarian High Performance Computing Consort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sr8000_ph2" descr="Hitachi SR8000-F1/168"/>
          <p:cNvPicPr/>
          <p:nvPr/>
        </p:nvPicPr>
        <p:blipFill>
          <a:blip r:embed="rId1"/>
          <a:stretch/>
        </p:blipFill>
        <p:spPr>
          <a:xfrm>
            <a:off x="76320" y="1447920"/>
            <a:ext cx="4419360" cy="338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0" y="183996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371600"/>
            <a:ext cx="4114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8 Proc and 8 GB pe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344 CPUs (168*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12 GFlop/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16 GFlop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npack: 1645 Gflop            (82% of theo. pea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ery sensitive to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ified Power PC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seudo-vector proce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029200"/>
            <a:ext cx="4419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achi SR 8000 at LRZ Munich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o. 5 in TOP-500 at time of installation in 2000, replacement scheduled for 2005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Speedup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023840"/>
            <a:ext cx="5943600" cy="506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Cache Optimiz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st of the talk deals w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tandard CPU archite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(for cluster type mach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Arial"/>
              </a:rPr>
              <a:t>Parallel programming is eas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Arial"/>
              </a:rPr>
              <a:t>achieving good node performance is diffic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B. Grop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ta locality optimizations which can be autom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ptimizing the data layout in address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rray pad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rid compression (LB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rray me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ptimizing the order of data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oop 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oop bl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dea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Merge data which are needed together to increase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 cache lines contain several data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Gauss Seidel on Ax = b , 2D, 5-point ste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ta layout optimization: 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rray me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8229600" cy="110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ta access optimization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loop blo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al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mprove spatial and temporal loc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inci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vide the computation in bloc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ximize the work performed on each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intain data dependenc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ndard example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locked matrix multi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676520" y="4191120"/>
            <a:ext cx="5516280" cy="193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ta access optimization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loop blo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locked implementations of iterative linear solv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locking the iteration loop by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duces the passes through the data set by factor 1/B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dditionally: blocking the loops along the spatial 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7772400" cy="108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152280" y="50292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locked implementation of LBM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alogous to iterative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ta access optimization: 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op blo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529160"/>
            <a:ext cx="77724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ere: three consecutive time steps are executed during a single pass through the grid (t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=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deally: MLUPS rate independent of the grid size if the size of the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moving 2D bloc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is chosen appropri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523880" y="1981080"/>
            <a:ext cx="5973840" cy="25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BM in 2D, 3-way bloc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 - LBM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876920"/>
            <a:ext cx="891540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1-way blocked codes perform well as long as working set fits into c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LUPS rate of 3-way blocked code (almost) independent of the gri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8.4 MLUPS ≈ 974 MFL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133720" y="1676520"/>
            <a:ext cx="4876560" cy="322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2160" y="1200240"/>
            <a:ext cx="85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MD Athlon XP 2400+ CPU, Linux, GNU gcc 3.2.1, flags: -O3 -ffast-ma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 - LBM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eft: L1 (64 kB) misses per cell update, right: L2 (256 kB) misses per cell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1 cache thrashing effect for grid size 800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, single grid row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64 k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10220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4101840" cy="3048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560" y="11430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rofiling results using PAP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2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rief introduction: hierarchical memory archit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rget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terative linear solvers (e.g., red-black Gauss Seid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ellular automata (e.g., Lattice Boltzmann method, LB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upercomputing Application of the LBM: fo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cality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ata locality optimizations which can be automiz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herently cache-aware multigrid methods (probably skipp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7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71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2438280"/>
          <a:ext cx="8610480" cy="296244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  <a:gridCol w="1066680"/>
                <a:gridCol w="1066680"/>
                <a:gridCol w="1067040"/>
                <a:gridCol w="16761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iler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4_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7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7_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ed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77 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O3 -march=pentium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ort 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O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ort 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O3 -xW -tpp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28600" y="1523880"/>
            <a:ext cx="51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entium 4 Northwood 2.8 GH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71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514600"/>
          <a:ext cx="8077320" cy="2849400"/>
        </p:xfrm>
        <a:graphic>
          <a:graphicData uri="http://schemas.openxmlformats.org/drawingml/2006/table">
            <a:tbl>
              <a:tblPr/>
              <a:tblGrid>
                <a:gridCol w="1741680"/>
                <a:gridCol w="1382760"/>
                <a:gridCol w="1066680"/>
                <a:gridCol w="1066680"/>
                <a:gridCol w="106704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7_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7_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b8_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ed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tium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c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3520" y="1600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l Fortran Compiler 8.0, flags -O3 -xW -tpp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Modeling cache optimization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n estimate of what performance can be expected using  cache optimization techniqu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 Defin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79480" y="3276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eak floating ops/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28195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ustained double words/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04812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achin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lance =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99360" y="3100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267080"/>
            <a:ext cx="4114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38098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mber of double words ac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7040" y="426708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mber of flops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480" y="40384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oop balanc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1120" y="41148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Callahan et 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334120"/>
            <a:ext cx="2590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4876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achine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3400" y="53341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oop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9640" y="51055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fficiency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1800" y="510552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Callahan et 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: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d-black Gauss-Seidel in 2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523880"/>
          <a:ext cx="8534160" cy="445140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89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y sub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l Pentium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 GHz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kB 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DR 400 Dual Channel (6,4 GB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: 4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D Opt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 GHz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B 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DR 333 Dual Channel (5.3 GB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: 3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l Xeon Noc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 GHz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B 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DR 333 Dual Channel  (5.3 GB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: 3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rediction of cache optimization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xample standard red-black Gauss-Seid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op balance = 0.8 (dwords / fl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fficiency P4: 12%          672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chmark:  651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fficiency Nocona: 7%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493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chmark: 520 MF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fficiency Opteron:  14%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517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chmark: 459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6668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733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rediction of cache optimization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d-black Gauss-Seidel 1D loop block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D blocked version (3 lines): loop balance = 0.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timated performance:  2016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chmark: 1853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ediction Prescott with FSB1066 and DDR2 53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eak memory bandwidth 8.5 GB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timated Stream result 5.7 GB/s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2640 Mfl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nchmark result next tim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440" y="1752480"/>
            <a:ext cx="6330960" cy="916920"/>
            <a:chOff x="838440" y="1752480"/>
            <a:chExt cx="6330960" cy="916920"/>
          </a:xfrm>
        </p:grpSpPr>
        <p:sp>
          <p:nvSpPr>
            <p:cNvPr id="145" name=""/>
            <p:cNvSpPr/>
            <p:nvPr/>
          </p:nvSpPr>
          <p:spPr>
            <a:xfrm>
              <a:off x="2971800" y="2209680"/>
              <a:ext cx="4114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3680" y="1752480"/>
              <a:ext cx="42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dwords / number of blocked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3360" y="2209680"/>
              <a:ext cx="348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number of flops perform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440" y="1981080"/>
              <a:ext cx="205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loop balanc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95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510552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erformance results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BM vs. multig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arison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BM vs. Multigrid (MG) in 3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ypically: LBM is computationally more intensive ( less memory bound) than MG,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3D Gauss-Seidel, variable 7-point stencil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0.9 FP ops. / data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3Q19 LBM model: 6.7 FP ops. / data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equ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FLOPS rates for MG much lower than for LBM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Hierarchical memory archite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otivation: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CPU Performance &gt;&gt; Memory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olution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emory hierarchies, usage of c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l Itanium 2 Architecture (1.5 GHz, max. 6 GFLOP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368960" cy="271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ache-aware programming can yield </a:t>
            </a:r>
            <a:r>
              <a:rPr b="0" i="1" lang="de-DE" sz="2400" spc="-1" strike="noStrike">
                <a:solidFill>
                  <a:srgbClr val="ffff00"/>
                </a:solidFill>
                <a:latin typeface="Arial"/>
              </a:rPr>
              <a:t>remarkable speed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 have targe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terative solvers for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large sparse linear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ellular automata (particulary the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LBM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de optimiziations may have conflicting goals; e.g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locking for cache may cause an increase in the TLB miss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locking for cache               dynamic branch pred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locking for cache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pipelining, data prefe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cality optimizations will become even more important in the future: larger cache size, more on chip parallelis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herently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cache aware algorithm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are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cality-aware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complexity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ool support: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Domain Specific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y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utomatic optimizati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similar to AT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342900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Finally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ME project since 19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ta Local iterative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aboration bet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mputer Architecture Dept. at TU Mun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mulation Dept. at Univ. 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www10.informatik.uni-erlangen.de/en/Research/Projects/Di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talk is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lease wake up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657600"/>
            <a:ext cx="86868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herently cache-aware algorithms: adaptive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tarting point: </a:t>
            </a:r>
            <a:r>
              <a:rPr b="0" i="1" lang="de-DE" sz="2000" spc="-1" strike="noStrike">
                <a:solidFill>
                  <a:srgbClr val="ffffff"/>
                </a:solidFill>
                <a:latin typeface="Arial"/>
              </a:rPr>
              <a:t>adaptive relaxation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n Ax =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ssumption:  A = (a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Arial"/>
              </a:rPr>
              <a:t>i,j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de-DE" sz="20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cmsy10"/>
              </a:rPr>
              <a:t>&lt;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de-DE" sz="2000" spc="-1" strike="noStrike" baseline="30000">
                <a:solidFill>
                  <a:srgbClr val="ffffff"/>
                </a:solidFill>
                <a:latin typeface="cmsy10"/>
              </a:rPr>
              <a:t>£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 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,large, sparse, symmetric positive defini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caled residu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otiv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rror reduction for one elementary relaxation st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: exact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65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3200400" cy="46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393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523880" y="4800600"/>
            <a:ext cx="601992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04920" y="5562720"/>
            <a:ext cx="380880" cy="34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herently cache-aware algorithms: adaptive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finition of an adaptive processing strate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Relax, where the error is reduced most efficiently (i.e., where </a:t>
            </a:r>
            <a:r>
              <a:rPr b="0" i="1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de-DE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is large)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Fully adaptive multigrid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daptive relaxation on the entire multigrid hierarchy (U. Ruede, M. Grieb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ultigrid efficiency through uniform error re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creased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ata locality optimization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loit the flexible update strate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105520"/>
            <a:ext cx="87631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herently cache-aware algorithms: adaptive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atch Adaptivity: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patch-based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cessing patched-based instead of node-based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duced overhead through reduced gran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Cache-efficien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f patch size is chosen appropriately and patches are relaxed consecu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200400" y="3352680"/>
            <a:ext cx="280656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nherently cache-aware algorithms: adaptive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ultigrid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tch-adaptive relaxation scheme to be used as smo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fficient uniform error re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eliminary experimental resul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creased robustness in the case of singularities through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ocal relaxation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A. Brand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nhanced reuse of cache cont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rst simulation results on P4 archit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2 cache miss rate decreases by more than 6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erformance tuning: work in progress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895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Arial"/>
              </a:rPr>
              <a:t>Bottom Line</a:t>
            </a:r>
            <a:br>
              <a:rPr sz="3600"/>
            </a:b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Cache-optimization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and 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Tuning for CPU </a:t>
            </a: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micro-architecture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must be done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350964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st compilers are not able to autovectoriz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mpilers tend to lag behind the abilities of the C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goo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compilers cannot yet utilize the new instructions to their full extent, especially if the inner loop is non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040" y="2438280"/>
            <a:ext cx="80416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ost modern architectures show best performanc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sing SIMD instruction set ext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tilize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struction set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rite the critical code section in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line assembly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se better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mpiler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sign highly optimizable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omain specific languag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for grid based compu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to-optimization and tuning of sparse matrix operations similar to 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1: Vector A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328840"/>
            <a:ext cx="77724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sic Vector operation: memory 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op balance = 4 (P4  2.4% of Peak, 134 MFl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asure for sustainable memory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ssembler written version reaches 4500 MBytes/s from 6400 MBytes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dvantage of the assembler version mainly based on usage of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non temporal stor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tructions. Use of write combined buffer.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200400" y="1371600"/>
            <a:ext cx="2514600" cy="655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1: Vector A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90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Hierarchical memory archite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al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loit the memory hierarchiy as efficiently as possib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pectrum of data locality optimiz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rdware techniques; e.g.,  data prefe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mpiler based techniques; e.g., elementary loop transform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gramming techniques (which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coul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be autom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ata layout optimizations; e.g., cache-aware data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ata access optimizations; e.g., complex loop transfor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herently cache-aware (numerical) algorithms (that could not be autom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1: Vector A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529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1: Vector A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95360" y="1523880"/>
            <a:ext cx="63532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830240"/>
            <a:ext cx="822960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 want to solve systems Ax = b  of linear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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de-DE" sz="2400" spc="-1" strike="noStrike" baseline="30000">
                <a:solidFill>
                  <a:srgbClr val="ffffff"/>
                </a:solidFill>
                <a:latin typeface="cmsy10"/>
              </a:rPr>
              <a:t>x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 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3047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raph of A represents (only!) nearest neighbor coup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p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,  n &gt; 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arse; i.e.,  </a:t>
            </a:r>
            <a:r>
              <a:rPr b="0" lang="de-DE" sz="2400" spc="-1" strike="noStrike">
                <a:solidFill>
                  <a:srgbClr val="ffffff"/>
                </a:solidFill>
                <a:latin typeface="cmsy10"/>
              </a:rPr>
              <a:t>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n) nonz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ighly structured; e.g., based on the discretization of PDEs using regular gr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Target algorithms I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iterative linear sol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 consider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iterativ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merical algorith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ary schemes: Gauss-Seidel, Jacobi, SOR, weighted Jacob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ultigrid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symptotically optimal complexity, </a:t>
            </a:r>
            <a:r>
              <a:rPr b="0" lang="de-DE" sz="2000" spc="-1" strike="noStrike">
                <a:solidFill>
                  <a:srgbClr val="ffffff"/>
                </a:solidFill>
                <a:latin typeface="cmsy10"/>
              </a:rPr>
              <a:t>O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(n) floating-poin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or Laplace-Operator: 30 n (add/mul)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oal: generation of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optimal implementations of optimal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Target algorithms I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iterative linear sol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Target algorithms II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Cellular Automata -  LB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attice Boltzmann metho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(LBM): CA models for simulating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fluid f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2Q9 LBM mod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191120" cy="204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4800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uccessive passes through the data set, Jacobi-like update operation of     grid cells in each time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de efficiency measured in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million lattice-site updates/secon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(ML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application of the LBM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Macintosh HD:Users:uli:doc:slides:CE:ce-for-presentation:daun26lss.mpg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952880" cy="3719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486400" y="3962520"/>
            <a:ext cx="3657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rget application: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Metal foam productio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n collaboration wit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C. Körner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material scie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etalphot01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331812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73cd"/>
            </a:gs>
            <a:gs pos="100000">
              <a:srgbClr val="303f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Example applications of the LBM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Macintosh HD:Users:uli:Desktop:nt_v34sixrb2b_high.mpg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676680" cy="4902120"/>
          </a:xfrm>
          <a:prstGeom prst="rect">
            <a:avLst/>
          </a:prstGeom>
          <a:ln w="0">
            <a:noFill/>
          </a:ln>
        </p:spPr>
      </p:pic>
      <p:pic>
        <p:nvPicPr>
          <p:cNvPr id="71" name="Macintosh HD:Users:uli:Desktop:experiment.avi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1:40:49Z</dcterms:created>
  <dc:creator>Jan Treibig</dc:creator>
  <dc:description/>
  <dc:language>en-US</dc:language>
  <cp:lastModifiedBy>Ulrich Ruede</cp:lastModifiedBy>
  <dcterms:modified xsi:type="dcterms:W3CDTF">2004-09-22T13:02:11Z</dcterms:modified>
  <cp:revision>46</cp:revision>
  <dc:subject/>
  <dc:title>PowerPoint-Präsentation</dc:title>
</cp:coreProperties>
</file>